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D06B6-0B59-4E34-A9FF-233B3BD0B4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DDB29-17E6-4E3B-B853-0F4D149DD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45DAC-434E-4835-9F3C-8345905F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AE894-20EE-42A7-AD2D-FE1817F101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05E08-F892-4754-80AD-543EB8ADD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E9CA8-4D2A-47D8-8243-7A6B8FF57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DCF76-83A4-47A6-AA12-3FD9E637E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3F7C5-C557-4559-A371-F6ABB116F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06C26-35FC-43CE-A5E8-3CB4BBC72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E2C9A-B769-41E6-B53C-37421CFCA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20C3B-6811-4683-AFD5-B0ACBC30D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39A7C-4A8C-4D7D-8954-8E5901A74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79AD6-DA3B-4D93-8BFA-6C6F7E00C95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58560" y="2492280"/>
            <a:ext cx="518148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SimHei"/>
                <a:ea typeface="SimHei"/>
              </a:rPr>
              <a:t>第七节 呼吸困难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呼吸困难的特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伴随症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呼吸困难对患者的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有无呼吸困难相关的疾病史或诱发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诊断、治疗与护理经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低效性呼吸型态  与上呼吸道梗阻有关，与心肺功能不全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气体交换受损  与心肺功能不全、肺部感染等引起有效肺组织减少、肺弹性减退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活动无耐力  与呼吸困难所致能量消耗增加和缺氧有关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语言沟通障碍  与严重喘息有关；与辅助呼吸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自理能力缺陷  与严重呼吸困难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定义  呼吸困难是指患者主观上感到空气不足，呼吸费力；客观上常有呼吸频率、深度和节律的改变，严重时可出现鼻翼扇动、发绀、端坐呼吸、辅助呼吸肌参与活动等表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病因  包括呼吸系统疾病、循环系统疾病、中毒、血液系统疾病、神经精神因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临床表现  肺源性呼吸困难常见有三种类型：吸气性呼吸困难、呼气性呼吸困难、混合性呼吸困难。吸气性呼吸困难表现为吸气时间明显延长，吸气显著困难，主要表现为“三凹征”；呼气性呼吸困难表现为呼气时间延长或缓慢，呼气费力，可伴哮鸣音；混合性呼吸困难表现为吸气与呼气均感费力。左心衰竭主要表现劳力性呼吸困难、夜间阵发性呼吸困难、端坐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护理评估要点  呼吸困难的特点、伴随症状、呼吸困难对患者的影响、有无呼吸困难相关的疾病史或诱发因素、诊断、治疗与护理经过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目 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547640" y="1557360"/>
            <a:ext cx="8610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说出呼吸困难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阐述呼吸困难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说出呼吸困难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解释呼吸困难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运用本节所学知识，能针对呼吸困难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根据护理评估，能正确作出护理诊断，并列出相关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呼吸困难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yspne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指患者主观上感到空气不足，呼吸费力；客观上常有呼吸频率、深度和节律的改变，严重时可出现鼻翼扇动、发绀、端坐呼吸、辅助呼吸肌参与活动等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25892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呼吸系统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循环系统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血液系统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神经精神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呼吸系统疾病  由于呼吸系统疾病引起的通气和（或）换气功能障碍，导致缺氧和（或）二氧化碳潴留而引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循环系统疾病  主要因左心衰竭和（或）右心衰竭引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中毒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血液系统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神经精神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肺源性呼吸困难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有三种类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吸气性呼吸困难：表现为吸气时间明显延长，吸气显著困难，重者由于呼吸肌极度用力，胸腔负压增大，吸气时胸骨上窝、锁骨上窝和肋间隙明显凹陷，称为“三凹征”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呼气性呼吸困难：主要表现为呼气时间延长或缓慢，呼气费力，可伴哮鸣音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混合性呼吸困难：表现为吸气与呼气均感费力，呼吸频率增快、变浅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P1010238"/>
          <p:cNvPicPr/>
          <p:nvPr/>
        </p:nvPicPr>
        <p:blipFill>
          <a:blip r:embed="rId1"/>
          <a:stretch/>
        </p:blipFill>
        <p:spPr>
          <a:xfrm>
            <a:off x="2411280" y="1197000"/>
            <a:ext cx="4042080" cy="417672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115" name="Line 5"/>
          <p:cNvSpPr/>
          <p:nvPr/>
        </p:nvSpPr>
        <p:spPr>
          <a:xfrm>
            <a:off x="1897200" y="2362320"/>
            <a:ext cx="1595160" cy="1930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6"/>
          <p:cNvSpPr/>
          <p:nvPr/>
        </p:nvSpPr>
        <p:spPr>
          <a:xfrm flipH="1">
            <a:off x="4284720" y="2060640"/>
            <a:ext cx="2735280" cy="267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7"/>
          <p:cNvSpPr/>
          <p:nvPr/>
        </p:nvSpPr>
        <p:spPr>
          <a:xfrm>
            <a:off x="1835280" y="5157720"/>
            <a:ext cx="2095200" cy="7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2340000" y="5300640"/>
            <a:ext cx="4518000" cy="6048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吸气性呼吸困难  三 凹 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228600" y="19875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锁骨上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7341480" y="1720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幼圆"/>
              </a:rPr>
              <a:t>胸骨上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871200" y="4869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幼圆"/>
              </a:rPr>
              <a:t>肋间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1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250" autoRev="1" fill="hold"/>
                                        <p:tgtEl>
                                          <p:spTgt spid="1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250" autoRev="1" fill="hold"/>
                                        <p:tgtEl>
                                          <p:spTgt spid="1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1125360"/>
            <a:ext cx="88200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心源性呼吸困难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左心衰竭：劳力性呼吸困难、夜间阵发性呼吸困难 、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端坐呼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右心衰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中毒性呼吸困难：在尿毒症、糖尿病酮症酸中毒时，出现深而规则的呼吸，可伴有鼾声，称为酸中毒大呼吸。急性感染时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呼吸增快。吗啡、巴比妥类药物、有机磷农药中毒时，呼吸浅慢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神经、精神性呼吸困难：重症颅脑疾病呼吸慢而深，常伴有呼吸节律的改变。精神因素引起者呼吸频速浅表，发生呼吸性碱中毒，出现口周、肢体麻木或手足抽搐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血液源性呼吸困难：重度贫血、高铁血红蛋白血症等，呼吸急促、心率增快。急性大出血或休克时呼吸增快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7:43:36Z</dcterms:modified>
  <cp:revision>223</cp:revision>
  <dc:subject/>
  <dc:title>内科护理学</dc:title>
</cp:coreProperties>
</file>